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25EA-19A0-44DE-8CAE-B7C0FF4553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EF24-7390-49F5-9F02-BF13EAB61F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1E8-12C2-484A-AD5B-1A1042F8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23D-1B89-4312-A38A-1EB38423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DE2-A908-4175-8392-6B7D9A71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2C1-7CC0-4BED-8D1E-C8AE8F49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4C4-9467-4DF3-A9B8-D6A075C4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FDB-90E8-4D80-8347-0F21A0D1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C97-4877-4B74-B658-DC50C696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123-317B-4565-928A-160BBD26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55D-8C32-491F-BED1-92F19EA7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26F-BEB8-4335-8BB7-DAD898CA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01E-7C9C-40C5-BED6-C6D31D01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276-C89D-44D9-91A7-3818E2A1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3CAF-1219-4520-9494-DA9C6B8AC2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873600" y="564372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усть говорят солдатские письма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896400" y="4214880"/>
            <a:ext cx="77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Письма военных ле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440240" y="214200"/>
            <a:ext cx="441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: учитель физики и информатики Александрова З.В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У СОШ № 5 п. Печенга, Мурманская 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560940.jpg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563643.jpg"/>
          <p:cNvPicPr/>
          <p:nvPr/>
        </p:nvPicPr>
        <p:blipFill>
          <a:blip r:embed="rId1"/>
          <a:stretch/>
        </p:blipFill>
        <p:spPr>
          <a:xfrm>
            <a:off x="357120" y="285840"/>
            <a:ext cx="84772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4"/>
          <p:cNvSpPr/>
          <p:nvPr/>
        </p:nvSpPr>
        <p:spPr>
          <a:xfrm>
            <a:off x="357120" y="928800"/>
            <a:ext cx="8572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а военных лет.. Они писались в минуты затишья между боями, в окопах, в воронках из-под бомб.  Авторы не думали, что через столько лет их мысли о войне будут опубликованы, поэтому они не обращали внимания ни на стиль своих писем, ни на язык - не до того было им тог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нь за днем и год за годом шли солдатские треугольники с фронта в ты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каждый раз, читая эти строки, испытываешь трепет от встречи с Памятью. Эти страницы бесцен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PICT0153.JPG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62150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785880" y="50004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ните! Через века, через года,- помните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PICT0158.JPG"/>
          <p:cNvPicPr/>
          <p:nvPr/>
        </p:nvPicPr>
        <p:blipFill>
          <a:blip r:embed="rId1"/>
          <a:stretch/>
        </p:blipFill>
        <p:spPr>
          <a:xfrm>
            <a:off x="500040" y="285840"/>
            <a:ext cx="8255160" cy="62625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785880" y="35712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ните! Через века, через года,- помните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5646600" y="6215040"/>
            <a:ext cx="30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хта Памяти. МОУ СОШ №5 п.Пече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500040" y="64296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ните! Через века, через года. Помните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Журавли..9 мая.wmv" descr=""/>
          <p:cNvPicPr/>
          <p:nvPr/>
        </p:nvPicPr>
        <p:blipFill>
          <a:blip r:embed="rId2"/>
          <a:stretch/>
        </p:blipFill>
        <p:spPr>
          <a:xfrm>
            <a:off x="1500120" y="150012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843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500040" y="4071960"/>
            <a:ext cx="8286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3 года назад  9 мая прогремел салют в честь победы в Великой Отечественной войне 1941-1945гг,  но отзвуки той войны до сих пор живут в каждом сердце. Нет такой семьи, которую не затронула бы война. Как ждали писем с фронта, эти маленькие желтые треугольнички были залогом того, что приславший их: муж, сын, брат, любимый жив и здоров, а значит, есть надежда увидеть его живым. Было так страшно, когда переставали приходит с фронта письма, значит, человек пропал без вести или уб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554919.jpg"/>
          <p:cNvPicPr/>
          <p:nvPr/>
        </p:nvPicPr>
        <p:blipFill>
          <a:blip r:embed="rId1"/>
          <a:stretch/>
        </p:blipFill>
        <p:spPr>
          <a:xfrm>
            <a:off x="571680" y="214200"/>
            <a:ext cx="80010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428760" y="1071720"/>
            <a:ext cx="835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а военных лет они хранят память о тех днях. В них было все: короткие, скупые рассказы о войне и стихи, фотографии, если была возможность сняться у фронтового фотографа, вырезки из фронтовых газет, слова любви к близким, в них была заключ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тот момент - ЖИЗН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553600.jpg"/>
          <p:cNvPicPr/>
          <p:nvPr/>
        </p:nvPicPr>
        <p:blipFill>
          <a:blip r:embed="rId2"/>
          <a:stretch/>
        </p:blipFill>
        <p:spPr>
          <a:xfrm>
            <a:off x="5500800" y="4143240"/>
            <a:ext cx="174456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554680.jpg"/>
          <p:cNvPicPr/>
          <p:nvPr/>
        </p:nvPicPr>
        <p:blipFill>
          <a:blip r:embed="rId1"/>
          <a:stretch/>
        </p:blipFill>
        <p:spPr>
          <a:xfrm>
            <a:off x="4643280" y="357120"/>
            <a:ext cx="4286520" cy="6215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Рисунок3.jpg"/>
          <p:cNvPicPr/>
          <p:nvPr/>
        </p:nvPicPr>
        <p:blipFill>
          <a:blip r:embed="rId2"/>
          <a:stretch/>
        </p:blipFill>
        <p:spPr>
          <a:xfrm>
            <a:off x="214200" y="357120"/>
            <a:ext cx="4926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554680.jpg"/>
          <p:cNvPicPr/>
          <p:nvPr/>
        </p:nvPicPr>
        <p:blipFill>
          <a:blip r:embed="rId1"/>
          <a:stretch/>
        </p:blipFill>
        <p:spPr>
          <a:xfrm>
            <a:off x="285840" y="214200"/>
            <a:ext cx="4486320" cy="64296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Рисунок2.jpg"/>
          <p:cNvPicPr/>
          <p:nvPr/>
        </p:nvPicPr>
        <p:blipFill>
          <a:blip r:embed="rId2"/>
          <a:stretch/>
        </p:blipFill>
        <p:spPr>
          <a:xfrm>
            <a:off x="4786200" y="214200"/>
            <a:ext cx="41180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4" descr="566186.jpg"/>
          <p:cNvPicPr/>
          <p:nvPr/>
        </p:nvPicPr>
        <p:blipFill>
          <a:blip r:embed="rId1"/>
          <a:stretch/>
        </p:blipFill>
        <p:spPr>
          <a:xfrm>
            <a:off x="5143680" y="3286080"/>
            <a:ext cx="2560320" cy="31845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285840" y="42876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дравствуйте дорогие и многоуважаемые родная мамаша и сестра Паша! В первых строках своего письма сообщаю, что я жив, здоров, нахожусь на одном из важных участков фронта…» — такими словами начинаются почти все письма с передовой солдата Владимира Трофименко своим родным в город  Глухов, Сумской области. Призванный в 1943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-летний пареньком он в составе 1-го Белорусского фронта дошел до Берлина. Но, как и многие его одногодки, вернулся домой не в мае 1945 года, а лишь через несколько лет после окончания вой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425459.jpg"/>
          <p:cNvPicPr/>
          <p:nvPr/>
        </p:nvPicPr>
        <p:blipFill>
          <a:blip r:embed="rId2"/>
          <a:stretch/>
        </p:blipFill>
        <p:spPr>
          <a:xfrm rot="20345400">
            <a:off x="1461960" y="4262040"/>
            <a:ext cx="1447920" cy="2059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554645.jpg"/>
          <p:cNvPicPr/>
          <p:nvPr/>
        </p:nvPicPr>
        <p:blipFill>
          <a:blip r:embed="rId3"/>
          <a:stretch/>
        </p:blipFill>
        <p:spPr>
          <a:xfrm rot="21379800">
            <a:off x="2779560" y="4249440"/>
            <a:ext cx="34084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Яbe7141362de5.jpg"/>
          <p:cNvPicPr/>
          <p:nvPr/>
        </p:nvPicPr>
        <p:blipFill>
          <a:blip r:embed="rId1"/>
          <a:stretch/>
        </p:blipFill>
        <p:spPr>
          <a:xfrm>
            <a:off x="739800" y="428760"/>
            <a:ext cx="76644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ЯЯbe7141362de5.jpg"/>
          <p:cNvPicPr/>
          <p:nvPr/>
        </p:nvPicPr>
        <p:blipFill>
          <a:blip r:embed="rId1"/>
          <a:stretch/>
        </p:blipFill>
        <p:spPr>
          <a:xfrm>
            <a:off x="642960" y="214200"/>
            <a:ext cx="77868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563151.jpg"/>
          <p:cNvPicPr/>
          <p:nvPr/>
        </p:nvPicPr>
        <p:blipFill>
          <a:blip r:embed="rId1"/>
          <a:stretch/>
        </p:blipFill>
        <p:spPr>
          <a:xfrm>
            <a:off x="928800" y="428760"/>
            <a:ext cx="731520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3857760" y="785880"/>
            <a:ext cx="4857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пять пишу с задержкой, не было случая передать письмо по почте. Вы не беспокойтесь, после двухмесячного отдыха мы снова вступили в бой. Если со мной что случится, часть сообщит.  Ну а если вообще нету писем, то это не значит, что меня нету — а я занят и не могу писать…» (июнь 1944-го г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02:20:21Z</dcterms:created>
  <dc:creator>Александрова З.В.</dc:creator>
  <dc:description/>
  <dc:language>en-US</dc:language>
  <cp:lastModifiedBy>Billy</cp:lastModifiedBy>
  <dcterms:modified xsi:type="dcterms:W3CDTF">2008-05-07T13:51:04Z</dcterms:modified>
  <cp:revision>30</cp:revision>
  <dc:subject/>
  <dc:title>Слайд 1</dc:title>
</cp:coreProperties>
</file>